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39E5E-3122-45F0-9E33-03C6FFB63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B5FB8-5039-411A-BDF4-B84FE742E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CF7266-67AC-4D9C-9BD6-028E4F33A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036805-A1DA-49A0-8F82-966788D33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65B8C9-AEFA-462A-940D-EC35E58E6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E66362-567B-4036-9666-B4CB53F70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1B5294-95CE-424B-8DF2-5A4A5A8E5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97B5FA-8992-42BD-8D7D-6AC19D41D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9C3F96-056E-4570-A64D-EE1790AA0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B9ABEB-0775-429E-85C7-FF52F77C8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7AE166-BF89-475B-A3FF-0EE2F39DF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071B54-301A-46E7-9BCF-FBE4A6E96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0B11F-3BCA-4383-8239-B7C522151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EFD303-F04A-45F1-BDC1-6FF56FCF5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50A9EA-DD9F-4D17-8AE4-CC97EC81B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815709-05E5-48C5-996E-B0882EE63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987B4F-132B-4080-8788-6C4152003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A075C0-ACFB-4EF2-828C-5C1CEDEC5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B2C441-2FF6-4640-8215-4D8E89CAF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A46F40-743C-4DDC-A563-DA9B30238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FC9A81-1650-4F00-BF08-BC2D0648D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C95849-A808-403E-8B10-E4127AC39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B518D3-5395-4D33-9F41-0C0C7D0FB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B90D3-6EE4-41AC-8E83-CA8F15592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7D2BB3-D046-4C8A-840A-FD2A7E768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B0C4C6-20AF-40C1-B92F-BFE60AADE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18AF23-9F3A-4874-8B0D-4A9140D03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BAF403-504B-4FFE-A703-078BF22B5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F49703-2D25-46E5-887E-47C41421B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F4DECA-8A23-435F-BBA3-57AA3506B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B8C390-D898-4EA3-A746-BC79B7699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0B3D5F-0F71-4524-B7EE-0AA2F2FCD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659392-0014-4771-BE34-9087BF7DE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1C8904-3A03-4ED8-AC85-293621EE7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5170C-3DC4-4B29-8A7C-01B5EA29D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F83A43-0770-4CB3-B92E-34E64DC9A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2A9B05-E789-4B62-ABEC-A088B4081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50D8DB-2D62-44EF-8088-DFE956FCF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0031A5-885D-42CA-98D3-E1496DA41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4FFA63-4C88-4B4F-8F3B-64743DA6B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98686E-D80A-4560-8702-00C7E9B99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CD5AE6-2D20-460A-AFCC-3335B2333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F5640C-BF91-4DDA-A388-03905A671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70ADF4-E2E1-4F0F-89AB-88FC2AB03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594151-3FFD-452B-83E7-6231C008F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4AD8F-E87A-415C-A70C-7B98D7B3C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5B566C-AEE1-4EB7-8CC4-7DCE1F963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A49782-B8D7-4A72-BB19-8E933791E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73740E-0662-4DE7-BACA-A0FB02CA4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07A7D3-52BD-48CF-9B4D-7C9E18347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E494F9-8DC9-43E1-89E3-3EC696284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C029FF1-AF3C-4651-95EF-B9238E2C2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CB223CF-45AB-4384-842A-5CE8EEC97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0E94643-FF7C-4836-A49B-A3D08E8D5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D04CBCA-522C-4936-B9B2-9FC382201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F67E212-1E1D-4B78-AE76-97B066A82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4EBC8-93E7-4AC5-81B4-E1CF4B337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C75B480-DC6A-49F4-A4FF-09771D37C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6221A8E-1E44-4344-9988-003BA48C0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B744C6A-4612-4A6D-A016-ED3809B52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7F11EAC-A5A9-485C-8EDA-F013301B7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1675E10-36AC-4E8D-8C75-8FE8FC53C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1892E9E-BFC1-4209-9409-701B599EE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5BAE667-D256-4004-BC87-AB8BEFD80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8C16444-B649-4C61-B447-A3472A839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2089E71-C086-4A74-A95F-581430E25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E01C353-A54C-4C8D-8A7D-ED5C70F3A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03EBC-A8CB-42FF-BF72-70EA8CB9D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7E6B941-1197-42ED-B368-64F74A770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A69E660-8289-4EF3-AC55-69913911A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D665264-D685-444D-B5DF-D786059A6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8C73A5D-477B-4C69-BFE7-4A34E806F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53C2D7A-FD07-4F14-A23E-30018C2D8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9599552-533E-4D85-A3B8-57A120988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4DDC4D8-EB0B-40CE-B336-550B87712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FFC2597-2B4C-46F8-BCD0-FA1C76249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94C67B1-DA9A-4480-91AC-7E55A4A05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24255A5-5BFC-4E0F-85BB-16CBCAE50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2A7E0-86FD-4544-A99C-6BD27534F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C5677FC-1525-433D-BFCA-065C4073B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18AD292-9A19-4C84-804D-F2286F7DE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30B19AA-3F37-4595-8ED9-494D06489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019E6AE-DFE1-4C22-9546-762A11A97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4288049-6653-414D-A7D4-A75049C41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19652B2-FFB9-4911-8C84-98BDDEE7F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2EB414A-BB61-425B-AE8B-D7E2D01BA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2CD08EF-0647-4C5F-9969-388368989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E06B060-AF2F-486B-8F84-57EA7E4BA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9DC5CC4-F22C-4312-A334-2E37313FE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D2671-8C89-49CC-9FB3-ACA51DB7E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53CE0B7-0A8E-4B57-8BAF-8AADC1E0E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448EEE9-57DD-41D3-BE30-8338E4A8F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0AF3BAE-7114-480D-B92D-E5FD8D1C8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8128E96-3980-4B25-A6C0-310B95257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DEE130A-A317-4BF7-846D-CC58E2C3E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8E194FA-8A62-41E4-BD75-4FB9915AB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2D0B578-8EAC-40C8-B64B-9926ACAA3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64C5F73-43FE-447F-94AD-68CD6C1B1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2637B74-39C0-4901-B033-F92A6BD3B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EE8BD49-F4B9-4952-9643-C50EB7DFF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613DC-070E-4170-9D7E-8437823E6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47300D7-544A-49B9-B89B-E123500F6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135D2BD-9B85-4428-8612-2FF565465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CAD2710-85E9-4236-B01F-59E3F10BE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E1CACB5-BE3B-44C8-8ED1-2A893F155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6126CC7-FB3A-479D-A523-A85789B26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3D66342-3482-4E79-A9C6-BABFC053D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EF54674-AC82-4A36-B959-FB05EC85F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CB659C7-D4B9-426B-B2BA-59AF3E913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8BEA79D-7EEC-4F3E-912A-F2515E4AD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01F79A9-1547-410D-8301-39F137C34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A09E4-79A6-4E05-B9E0-766422F4A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6AC82-0B4E-4830-8EC3-673A29101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E2C1FE8-2879-4BD9-8435-AE2EA59F0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9E089C4-37F1-4864-AB52-D068981AD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EB86379-7B9D-47F8-95F5-AA9126175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9C34FBA-7351-46ED-83C5-04A819692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4124675-013D-4892-911D-40D1C723C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542ED38-9D34-4CA3-9FE3-6235BC3E0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6122F07-BA51-49A0-BD6D-B72B5A591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AF25E51-999C-427B-A5EC-D7B9FA145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E39D103-2E09-47FF-B727-EBEF3E54E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1151810-F910-4120-A162-CF63869A6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01B81-B607-4BB6-ABC9-62680B193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12E041D-D2E8-4561-BE9F-A592AD05D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D4E632E-BC03-4AA3-B0AD-7330FFE77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137F15B-D1BA-4AA5-982A-6CFB371BB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D889A31-AA2B-4EA7-A4B9-C151C8C61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7B9A2BC-0C6F-42E5-B38D-54EF35659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54281D0-1DFB-42C7-88AE-9AD3DEBCC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0283835-1B7B-4FAD-A282-0AD6D2074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8011A23-EA39-4369-98B9-2D1E4B212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149E851-AF89-4034-B55E-3CA4CFFAE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68AF616-7922-4695-B847-2B620AE43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5AE1F-A66D-40C1-B780-0DDDC26E0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A0C7E47-9E59-40B1-AE9A-3F4871118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8C5FEAA-2A2F-4FA0-B2A8-DB740C72C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ECDBB27-4FFA-4E7A-B12C-D4A6BCE67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3F03AC8-CF73-413D-8599-35D72FAE3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DD0300A-27EB-453C-A090-FE5EE9A3F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A063C27-4D3D-4E19-935C-ADFB70839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B70521F-62EE-44F1-9985-3B603D2E9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F4B9DEB-EE74-49EF-B7F0-A5C913074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2D90057-5BC9-4912-ABE1-AA955FE85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FECE07A-3C4A-4F48-B6A6-3BAEB0E85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6C913-3213-4C8D-B66D-02B8A6ECE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78F9759-30E9-4A07-9133-E3CF22308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264FDCF-6D79-45FD-BAE0-024C16357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F854B81-EF68-426E-B695-E74122EFA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DFC25C1-58D8-4634-99C5-705B35113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9632EDB-0954-45C9-AC0A-AF528B48D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4E4763C-0361-4EDF-8706-A9CDCF99B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F93681B-064E-4DE1-9DB8-6C7AD02F2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D85903C-E3B3-480C-A5A9-50BFD984E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5F9FAE7-03B2-4A77-A6A0-6D1667FC6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8841C9C-19F7-457A-B07B-98D22901D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0EBEB-A3AF-4056-B080-9E98D5418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5005E73-98A9-4A15-A313-220F38F37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E87E6B9-AA2F-4995-A723-713A57088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8FCF978-4359-41F1-B398-9240D492F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030D059-2D07-461E-A100-9A2D2FC79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9E2FD1A-F876-44E5-B7E1-94F4DEE9B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6CC6DB9-E7FD-4437-ADC3-DEC9C1D76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5203E12-0250-498D-8AA7-710A82E75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DFF1644-A4B3-40F4-A2CB-2AD779D90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D575556-E5FB-4AF8-A3D2-1EF4244DF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13798B1-9796-49D4-BCA6-BC6A6F63D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CEF70F-E02C-4FFC-BCED-8FFB66855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09DC111-F965-4A12-B333-E85CE6742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80388B6-60C8-4426-BEC7-360DC0CA2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0319076-E8B6-40E6-A3E3-B0D2D2369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E18FF0-AD3E-4E0E-9483-73C511817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0956E4-EF5C-467D-ACA0-D0CAE7BDD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E74258-8B09-49DB-B2C6-C87E45F06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537CD0-C8D9-44F2-958B-FC0DFDCAC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B017C-C5C8-4E78-85F9-0F8496172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5F2252-5702-495D-828E-D77C7ED88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B64C2B-D025-4F2E-9742-36E09DFDE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EDE36A-E93B-48CA-8AD3-13CDC4D2F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611E88-C319-4EFF-8A46-71946EE94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5E3146-DBA5-46A5-981F-981198053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2825BA-728D-4517-BCCE-A7CB445FD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A3489C-E9F0-48CA-99A5-57FA4446C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118C2B-8C07-436B-9BF6-C5EBC6C33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F23272-0856-4D8D-8168-F539595F8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A7305D-E703-476A-A798-A0BFB5F62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44DE9-7E58-417C-9366-29805FB31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54B019-4ABE-48FF-AA1D-F084F21E9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7507EC-F70B-4DE7-8D3C-E912FFD69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C3FE44-F7FC-4FA6-A182-4BE1135D3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F2B6A5-B7DE-497D-88CE-E1ACB57D7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16FF6E-0599-479E-A84B-35325B636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7DE58F-5BCA-4336-BFC8-EF9617CF4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5065FA-58BE-485D-96EB-7606AEC06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166665-738C-4D26-A138-F481121B1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3C2F69-219E-4564-B783-344E514EB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AD2857-7816-4636-907C-1C6D36EE8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3E1DD-316A-4FF9-935C-FD3CFF579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5765E5-F335-4F43-8CB7-06190DF34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C4EF1D-4E3F-490C-A38B-E5B094F16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495E32-4E8F-4AA5-9C95-68194567A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2AA47D-045F-418B-9CDF-545EF45A7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E0F76B-0FFA-4CAF-8175-4169EB26B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C2DE5A-321E-4F6A-95B0-785581E53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C1DA6B-AB94-4F8C-96E6-AA2088022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DEBE84-355F-4FD8-9E39-AD77245CB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83EE93-4D36-4EA3-BE55-1756E9462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DF1002-498E-4EF6-9023-C8771463B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91F58-5ADF-4AD7-81C1-29CD91EB5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BF0438-E63E-4619-BDF4-DCD52EA56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FE2217-C0E1-4648-BFC7-E5A120CBB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B38FF0-0CCD-472C-B0CD-AAC25D285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7CD8A6-3486-4D03-87B9-9E65E8D98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849259-9428-4522-A81E-5AAD3B29A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4C6F70-A4A7-44EB-B9E9-86170A65E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BB69D9-CA9E-482B-A3D9-C40078551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17529C-15D1-4882-8005-1DB7BEA91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2C5350-4DA4-4C53-91BE-D02995F48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518DE3-A916-4AC7-BD20-F8444ACAD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5D183-D1B0-4B6F-A921-20BBF7564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D31DC6-98BB-4222-B190-C284467E2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81D992-1E76-476B-943D-326B62ED2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59B760-D0A6-402A-828A-D494AC4AA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05C6F2-9224-439B-AD13-CFF3E4639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0F3A9C-7216-4B21-A8F4-342C992DC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A53436-20F4-4896-B467-521615CD8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3CFBDB-CC9E-45CA-AAD0-9A59952AD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1CAACE-01FA-478D-97A6-0628273BE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5671DD-6D88-42D8-8161-85DFA9ADA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F12C32-38BB-493A-B170-5719C785A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49DE0-EC48-48C2-B6ED-281848956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1A1444-EDA5-4D41-9E4F-F5DD9E272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0234CB-7A42-4609-851C-7A298E3ED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CD9F3D-676C-455B-99D5-B45F54491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2180DE-E60F-4EC7-B5B7-1B13DF368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D8CDDA-812F-4A18-898A-803C31AEC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BC0F0E-8126-4B04-89EA-9563CFDA1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17392D-6A7A-4A3C-B2EA-2F0C6D846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645860-A78D-4F06-BC3C-601FF2B64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7BD95C-ECE0-48C8-8F7A-E0CD812E0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AC7229-52E1-4850-AE5E-E30394A98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D165A-3C0C-42A7-B9D7-C1BF495D0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FDFAAA-C5A9-4796-A01C-758740B29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49391F-2D9D-4A00-BFB1-BD56FA23A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EE704F-5555-490F-B9E5-84B731995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87384C-F05E-4C6D-9C98-3D12D8119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37883F-8AC9-4B46-8AB0-9D8673994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FF969B-968B-4D18-9E70-6F9C4D191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8F204D-529F-425B-8A90-62465DD46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B16F66-0AAE-4018-AB72-0E7637282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2DFDBD-D9B1-4D89-BAEE-83DD47E1D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43AD2F-9075-4528-9EFA-A73CEB170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67E11-B4C9-458B-8C49-9B42FBB625B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7BE7C-7ED6-4186-A28A-006285F16BC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41898-37F0-4E9A-B932-740EA0DBCC0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84E9B-7973-4DD6-B07B-9CA6216B6F7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20D72-8EE8-4EA8-B3A6-A0BF46E8FBF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DA38C-5274-4B91-9538-33CE99C4A2C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6927B-32C7-45C6-9EA0-E17E9BCD078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577EC-9D62-4727-8E43-4560E5D18AF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6483F-82F9-48A5-8BD6-F4796E364E2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57856-F38E-472A-8D04-1B31A1E48D1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F6C3A-80C0-44B2-B373-00F4F941C52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D7C86-B990-4BBE-9EE8-AAD92DB71C4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F309B-4A0F-4359-80B9-3E932B0DC3D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4515D-DC72-4643-B84C-7A3C4783247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E6639-158E-4E26-B6C3-5D535896946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3E5D1-CA51-4519-B6E4-F6EFB1E10B4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0255D-E141-4E2E-BD13-1A72F77FD5F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21420-5AFD-4A70-AAB0-7E065EF12AC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61884-F54B-46A8-9245-3050DBEA9C0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CAE94-0942-4889-B096-978DCCFE368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38921-1AD7-4C51-BEF2-A923AA4B85E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BED52-F1A5-4D5E-9E99-8FB96BC49F1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FAB72-2D29-4EFA-A67A-DB756BD39F1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70F7F-964E-45E4-8E02-88046B1FB2B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5E788-3EF3-45D2-9FD8-17B79A2120B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FB6C3-CA05-4259-B2DC-8FA14859D48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60C41-2EE8-4C36-BD5B-FE2E245C242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24C24-649D-49DA-BAC3-AD17E98A40F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1974600"/>
            <a:ext cx="0" cy="282708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F7870-78ED-4038-A8EA-37606CD21AE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01ED2-0225-4854-9DEE-6CFA1E4BFC6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DC3CE-D477-484C-B54D-6D7F91830C1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E0C00-9CB0-448D-A752-CD194FB0148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54E50-5A59-48E2-82D8-AF32563474B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C7369-FEA8-4BD9-AE79-59EE009C3CC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9AEF3-B6B3-4AF5-AF3C-0F147C9324D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DF0AA-1665-48A2-A485-2EBA31AFC62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52F0F-9C86-4561-8D2D-DE9DFFF0968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DDE8A-95DC-4BBB-9FF0-B8366BDA282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F7BBC-A3BA-4A2A-B16F-5022993D1EB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186C9-D540-4596-A11D-3F8EFB81E50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2862360" y="3214800"/>
            <a:ext cx="3419280" cy="42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2" name="图片 60428" descr=""/>
          <p:cNvPicPr/>
          <p:nvPr/>
        </p:nvPicPr>
        <p:blipFill>
          <a:blip r:embed="rId1"/>
          <a:stretch/>
        </p:blipFill>
        <p:spPr>
          <a:xfrm>
            <a:off x="162000" y="1109520"/>
            <a:ext cx="8820000" cy="4638960"/>
          </a:xfrm>
          <a:prstGeom prst="rect">
            <a:avLst/>
          </a:prstGeom>
          <a:ln w="0">
            <a:noFill/>
          </a:ln>
        </p:spPr>
      </p:pic>
      <p:pic>
        <p:nvPicPr>
          <p:cNvPr id="923" name="Picture 1" descr=""/>
          <p:cNvPicPr/>
          <p:nvPr/>
        </p:nvPicPr>
        <p:blipFill>
          <a:blip r:embed="rId2"/>
          <a:stretch/>
        </p:blipFill>
        <p:spPr>
          <a:xfrm>
            <a:off x="6804000" y="2305080"/>
            <a:ext cx="936720" cy="27288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1" descr=""/>
          <p:cNvPicPr/>
          <p:nvPr/>
        </p:nvPicPr>
        <p:blipFill>
          <a:blip r:embed="rId3"/>
          <a:stretch/>
        </p:blipFill>
        <p:spPr>
          <a:xfrm>
            <a:off x="7380360" y="2708280"/>
            <a:ext cx="936720" cy="27288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1" descr=""/>
          <p:cNvPicPr/>
          <p:nvPr/>
        </p:nvPicPr>
        <p:blipFill>
          <a:blip r:embed="rId4"/>
          <a:stretch/>
        </p:blipFill>
        <p:spPr>
          <a:xfrm>
            <a:off x="6948360" y="3078000"/>
            <a:ext cx="936720" cy="27324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1" descr=""/>
          <p:cNvPicPr/>
          <p:nvPr/>
        </p:nvPicPr>
        <p:blipFill>
          <a:blip r:embed="rId5"/>
          <a:stretch/>
        </p:blipFill>
        <p:spPr>
          <a:xfrm>
            <a:off x="2916360" y="4932360"/>
            <a:ext cx="936360" cy="27288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1" descr=""/>
          <p:cNvPicPr/>
          <p:nvPr/>
        </p:nvPicPr>
        <p:blipFill>
          <a:blip r:embed="rId6"/>
          <a:stretch/>
        </p:blipFill>
        <p:spPr>
          <a:xfrm>
            <a:off x="2916360" y="5319720"/>
            <a:ext cx="936360" cy="27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8" name="图片 59410" descr=""/>
          <p:cNvPicPr/>
          <p:nvPr/>
        </p:nvPicPr>
        <p:blipFill>
          <a:blip r:embed="rId1"/>
          <a:stretch/>
        </p:blipFill>
        <p:spPr>
          <a:xfrm>
            <a:off x="133200" y="1219320"/>
            <a:ext cx="8877600" cy="441936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1" descr=""/>
          <p:cNvPicPr/>
          <p:nvPr/>
        </p:nvPicPr>
        <p:blipFill>
          <a:blip r:embed="rId2"/>
          <a:stretch/>
        </p:blipFill>
        <p:spPr>
          <a:xfrm>
            <a:off x="468360" y="2411280"/>
            <a:ext cx="3598920" cy="27324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1" descr=""/>
          <p:cNvPicPr/>
          <p:nvPr/>
        </p:nvPicPr>
        <p:blipFill>
          <a:blip r:embed="rId3"/>
          <a:stretch/>
        </p:blipFill>
        <p:spPr>
          <a:xfrm>
            <a:off x="395280" y="2790720"/>
            <a:ext cx="3598920" cy="273240"/>
          </a:xfrm>
          <a:prstGeom prst="rect">
            <a:avLst/>
          </a:prstGeom>
          <a:ln w="0">
            <a:noFill/>
          </a:ln>
        </p:spPr>
      </p:pic>
      <p:pic>
        <p:nvPicPr>
          <p:cNvPr id="931" name="Picture 1" descr=""/>
          <p:cNvPicPr/>
          <p:nvPr/>
        </p:nvPicPr>
        <p:blipFill>
          <a:blip r:embed="rId4"/>
          <a:stretch/>
        </p:blipFill>
        <p:spPr>
          <a:xfrm>
            <a:off x="324000" y="4489560"/>
            <a:ext cx="2303280" cy="272880"/>
          </a:xfrm>
          <a:prstGeom prst="rect">
            <a:avLst/>
          </a:prstGeom>
          <a:ln w="0">
            <a:noFill/>
          </a:ln>
        </p:spPr>
      </p:pic>
      <p:pic>
        <p:nvPicPr>
          <p:cNvPr id="932" name="Picture 1" descr=""/>
          <p:cNvPicPr/>
          <p:nvPr/>
        </p:nvPicPr>
        <p:blipFill>
          <a:blip r:embed="rId5"/>
          <a:stretch/>
        </p:blipFill>
        <p:spPr>
          <a:xfrm>
            <a:off x="2700360" y="4465800"/>
            <a:ext cx="2303280" cy="272880"/>
          </a:xfrm>
          <a:prstGeom prst="rect">
            <a:avLst/>
          </a:prstGeom>
          <a:ln w="0">
            <a:noFill/>
          </a:ln>
        </p:spPr>
      </p:pic>
      <p:pic>
        <p:nvPicPr>
          <p:cNvPr id="933" name="Picture 1" descr=""/>
          <p:cNvPicPr/>
          <p:nvPr/>
        </p:nvPicPr>
        <p:blipFill>
          <a:blip r:embed="rId6"/>
          <a:stretch/>
        </p:blipFill>
        <p:spPr>
          <a:xfrm>
            <a:off x="395280" y="4878360"/>
            <a:ext cx="3024360" cy="273240"/>
          </a:xfrm>
          <a:prstGeom prst="rect">
            <a:avLst/>
          </a:prstGeom>
          <a:ln w="0">
            <a:noFill/>
          </a:ln>
        </p:spPr>
      </p:pic>
      <p:pic>
        <p:nvPicPr>
          <p:cNvPr id="934" name="Picture 1" descr=""/>
          <p:cNvPicPr/>
          <p:nvPr/>
        </p:nvPicPr>
        <p:blipFill>
          <a:blip r:embed="rId7"/>
          <a:stretch/>
        </p:blipFill>
        <p:spPr>
          <a:xfrm>
            <a:off x="395280" y="5248440"/>
            <a:ext cx="4681440" cy="27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8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5" name="图片 58373" descr=""/>
          <p:cNvPicPr/>
          <p:nvPr/>
        </p:nvPicPr>
        <p:blipFill>
          <a:blip r:embed="rId1"/>
          <a:stretch/>
        </p:blipFill>
        <p:spPr>
          <a:xfrm>
            <a:off x="138240" y="2195640"/>
            <a:ext cx="8867520" cy="2466720"/>
          </a:xfrm>
          <a:prstGeom prst="rect">
            <a:avLst/>
          </a:prstGeom>
          <a:ln w="0">
            <a:noFill/>
          </a:ln>
        </p:spPr>
      </p:pic>
      <p:pic>
        <p:nvPicPr>
          <p:cNvPr id="936" name="Picture 1" descr=""/>
          <p:cNvPicPr/>
          <p:nvPr/>
        </p:nvPicPr>
        <p:blipFill>
          <a:blip r:embed="rId2"/>
          <a:stretch/>
        </p:blipFill>
        <p:spPr>
          <a:xfrm>
            <a:off x="4427640" y="2276640"/>
            <a:ext cx="720720" cy="272880"/>
          </a:xfrm>
          <a:prstGeom prst="rect">
            <a:avLst/>
          </a:prstGeom>
          <a:ln w="0">
            <a:noFill/>
          </a:ln>
        </p:spPr>
      </p:pic>
      <p:pic>
        <p:nvPicPr>
          <p:cNvPr id="937" name="Picture 1" descr=""/>
          <p:cNvPicPr/>
          <p:nvPr/>
        </p:nvPicPr>
        <p:blipFill>
          <a:blip r:embed="rId3"/>
          <a:stretch/>
        </p:blipFill>
        <p:spPr>
          <a:xfrm>
            <a:off x="6227640" y="2276640"/>
            <a:ext cx="720720" cy="272880"/>
          </a:xfrm>
          <a:prstGeom prst="rect">
            <a:avLst/>
          </a:prstGeom>
          <a:ln w="0">
            <a:noFill/>
          </a:ln>
        </p:spPr>
      </p:pic>
      <p:pic>
        <p:nvPicPr>
          <p:cNvPr id="938" name="Picture 1" descr=""/>
          <p:cNvPicPr/>
          <p:nvPr/>
        </p:nvPicPr>
        <p:blipFill>
          <a:blip r:embed="rId4"/>
          <a:stretch/>
        </p:blipFill>
        <p:spPr>
          <a:xfrm>
            <a:off x="2268360" y="2717640"/>
            <a:ext cx="790920" cy="27324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1" descr=""/>
          <p:cNvPicPr/>
          <p:nvPr/>
        </p:nvPicPr>
        <p:blipFill>
          <a:blip r:embed="rId5"/>
          <a:stretch/>
        </p:blipFill>
        <p:spPr>
          <a:xfrm>
            <a:off x="755640" y="3510000"/>
            <a:ext cx="3960720" cy="272880"/>
          </a:xfrm>
          <a:prstGeom prst="rect">
            <a:avLst/>
          </a:prstGeom>
          <a:ln w="0">
            <a:noFill/>
          </a:ln>
        </p:spPr>
      </p:pic>
      <p:pic>
        <p:nvPicPr>
          <p:cNvPr id="940" name="Picture 1" descr=""/>
          <p:cNvPicPr/>
          <p:nvPr/>
        </p:nvPicPr>
        <p:blipFill>
          <a:blip r:embed="rId6"/>
          <a:stretch/>
        </p:blipFill>
        <p:spPr>
          <a:xfrm>
            <a:off x="611280" y="3924360"/>
            <a:ext cx="3960720" cy="272880"/>
          </a:xfrm>
          <a:prstGeom prst="rect">
            <a:avLst/>
          </a:prstGeom>
          <a:ln w="0">
            <a:noFill/>
          </a:ln>
        </p:spPr>
      </p:pic>
      <p:pic>
        <p:nvPicPr>
          <p:cNvPr id="941" name="Picture 1" descr=""/>
          <p:cNvPicPr/>
          <p:nvPr/>
        </p:nvPicPr>
        <p:blipFill>
          <a:blip r:embed="rId7"/>
          <a:stretch/>
        </p:blipFill>
        <p:spPr>
          <a:xfrm>
            <a:off x="755640" y="4302000"/>
            <a:ext cx="5616720" cy="27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5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0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5" dur="5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0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5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0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16T01:40:14Z</dcterms:modified>
  <cp:revision>2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